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5ADC-4E6A-4C5A-8202-D11402301E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31F9-2722-4005-BA03-3021788C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5EC2-59A8-4981-ADE9-40A782FD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5C8F-99D1-4AA4-8C95-89A993860F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1F29-2FDB-4A6E-9A2C-F8DE8CE6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48FB-5E7A-4F26-9E6A-47DFC64D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4F19-828D-464B-9741-9013492B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4440-F522-4DA4-91EA-0FEB6D04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BAFE-EB64-46CF-83BA-F1F0AAF6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337E-2070-4D36-815B-6EA53017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BC5D-8455-422C-B62B-73826DF7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613D-2D4B-4D79-8CC0-EE5FA3F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3480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4C30-E150-4AB3-847F-8676F254A34A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2006/05/23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 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20560" y="2080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 R A F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524360" y="142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7451280" y="115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8748360" y="43164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675280" y="404640"/>
            <a:ext cx="360360" cy="333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197000"/>
            <a:ext cx="2376360" cy="826920"/>
          </a:xfrm>
          <a:prstGeom prst="rect">
            <a:avLst/>
          </a:prstGeom>
          <a:solidFill>
            <a:srgbClr val="d1c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BMG PH 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usiness Operation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	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g J Liu (depu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2492280"/>
            <a:ext cx="1368360" cy="792360"/>
          </a:xfrm>
          <a:prstGeom prst="rect">
            <a:avLst/>
          </a:prstGeom>
          <a:solidFill>
            <a:srgbClr val="d1c1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OS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492280"/>
            <a:ext cx="1368360" cy="792360"/>
          </a:xfrm>
          <a:prstGeom prst="rect">
            <a:avLst/>
          </a:prstGeom>
          <a:solidFill>
            <a:srgbClr val="d1c1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OS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ng J Li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276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. v. Kemen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.-P. Höckenre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, controlling 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. Lutterb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process, support and tool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. L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678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Business Operations Support</a:t>
            </a:r>
            <a:br>
              <a:rPr sz="2800"/>
            </a:b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BMG PH RD BO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227640" y="6165720"/>
            <a:ext cx="1295280" cy="246240"/>
            <a:chOff x="6227640" y="6165720"/>
            <a:chExt cx="1295280" cy="246240"/>
          </a:xfrm>
        </p:grpSpPr>
        <p:sp>
          <p:nvSpPr>
            <p:cNvPr id="66" name=""/>
            <p:cNvSpPr/>
            <p:nvPr/>
          </p:nvSpPr>
          <p:spPr>
            <a:xfrm>
              <a:off x="6227640" y="6165720"/>
              <a:ext cx="35856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86200" y="6165720"/>
              <a:ext cx="93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Work Top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1672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, controlling 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process, support and tool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587700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 Organisation not existent today in Asia. Tbd. dur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CCDF-7A98-41E2-B162-2C59A22690B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Brandl Nicole</dc:creator>
  <dc:description/>
  <dc:language>en-US</dc:language>
  <cp:lastModifiedBy> </cp:lastModifiedBy>
  <dcterms:modified xsi:type="dcterms:W3CDTF">2006-05-24T10:01:55Z</dcterms:modified>
  <cp:revision>67</cp:revision>
  <dc:subject/>
  <dc:title>PHE R&amp;D</dc:title>
</cp:coreProperties>
</file>